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AC5-BDE6-46B6-89EF-A92DEAD5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705-40F8-4A9A-94BB-BE5715DA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3D4-7321-47AA-B27F-202BDE06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397-D881-4D5F-8511-5EFA212A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9DA9-48D1-4F8E-936F-4A4C4669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B755-503F-4F84-B153-B03F6DDD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767B-5425-49DD-9800-C17CAC9A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B36A-0B32-4F43-826C-0D2E4D76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8D42-880C-4127-B36D-DF6CB255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2FBA-B410-4994-9A98-5266BE77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E01E-F9A7-485D-A7E7-5395E7DF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4DE6-3A0A-4ECF-929D-676DC968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38F7-BAE0-4E7C-85F6-61481237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A224-0BA2-49FC-936C-22A7C4DD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DA85-E2EF-490A-B402-856F0C3F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5CA0-F97C-4B75-8936-73117D87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1CED-E10D-4067-8A21-CC599A10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CBA-B1C5-4B92-A089-0BA4005F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EA7-F37E-4785-B64D-D4D6314C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BFAD-2BC2-4200-8600-60018D12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3D5-B0ED-49A1-A157-8148B93D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2BE-37A0-45EA-BF57-2B54E782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091-B744-4F34-A0DA-110ADDF4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7AF-B6B8-4AA7-9FCB-BA9A4FF8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F276-35AC-4E32-A77D-35052BE1E4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79B5-1600-413A-AB2B-DB12E1CE9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9bf656"/>
                </a:solidFill>
                <a:latin typeface="Arial Black"/>
                <a:cs typeface="DecoType Naskh Swashes"/>
              </a:rPr>
              <a:t>بسم الله الرحمن الرحيم</a:t>
            </a:r>
            <a:r>
              <a:rPr b="1" lang="en-US" sz="3600" spc="-1" strike="noStrike">
                <a:solidFill>
                  <a:srgbClr val="9bf656"/>
                </a:solidFill>
                <a:latin typeface="Arial Black"/>
                <a:ea typeface="DecoType Naskh Swashes"/>
              </a:rPr>
              <a:t> </a:t>
            </a:r>
            <a:br>
              <a:rPr sz="36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الملتقى التربوي</a:t>
            </a:r>
            <a:br>
              <a:rPr sz="4800"/>
            </a:b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مع تحيات </a:t>
            </a: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مشرف قسم اللغة العربية</a:t>
            </a:r>
            <a:br>
              <a:rPr sz="4800"/>
            </a:b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جمعة أبوعوده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0000"/>
                </a:solidFill>
                <a:latin typeface="Arial"/>
                <a:cs typeface="Al-Hadith1"/>
              </a:rPr>
              <a:t>أقسام الإدغا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1197000"/>
            <a:ext cx="230508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0" y="2708280"/>
            <a:ext cx="255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Al-Hadith1"/>
              </a:rPr>
              <a:t>إدغام بغن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1197000"/>
            <a:ext cx="230508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280" y="2708280"/>
            <a:ext cx="248472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Hadith1"/>
              </a:rPr>
              <a:t>إدغام بغير غن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l-Hadith1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1557360"/>
            <a:ext cx="3384720" cy="2303280"/>
          </a:xfrm>
          <a:prstGeom prst="wedgeEllipseCallout">
            <a:avLst>
              <a:gd name="adj1" fmla="val 73453"/>
              <a:gd name="adj2" fmla="val 17884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حركة تخر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ن الخيشو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cc"/>
                </a:solidFill>
                <a:latin typeface="Arial"/>
              </a:rPr>
              <a:t>بمقدار حرك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08720" y="4221000"/>
            <a:ext cx="136692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5373720"/>
            <a:ext cx="1297080" cy="863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5516640"/>
            <a:ext cx="13669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4149720"/>
            <a:ext cx="15127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5373720"/>
            <a:ext cx="15130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4292640"/>
            <a:ext cx="13687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Al-Hadith1"/>
              </a:rPr>
              <a:t> الإقــــلا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93080" y="1628640"/>
            <a:ext cx="1839960" cy="1295640"/>
          </a:xfrm>
          <a:prstGeom prst="leftArrow">
            <a:avLst>
              <a:gd name="adj1" fmla="val 98620"/>
              <a:gd name="adj2" fmla="val 35536"/>
            </a:avLst>
          </a:prstGeom>
          <a:solidFill>
            <a:srgbClr val="ffffb7"/>
          </a:solidFill>
          <a:ln w="93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ahoma"/>
                <a:cs typeface="Al-Hadith1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00280"/>
            <a:ext cx="6696000" cy="12240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Tahoma"/>
              </a:rPr>
              <a:t>هو قلب النون الساكنة أوالتنوين ميمًا عند الب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Tahoma"/>
              </a:rPr>
              <a:t> مع مراعات  الغنة و الإخف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3284640"/>
            <a:ext cx="3816360" cy="1439640"/>
          </a:xfrm>
          <a:custGeom>
            <a:avLst/>
            <a:gdLst>
              <a:gd name="textAreaLeft" fmla="*/ 31680 w 3816360"/>
              <a:gd name="textAreaRight" fmla="*/ 3784680 w 3816360"/>
              <a:gd name="textAreaTop" fmla="*/ 297000 h 1439640"/>
              <a:gd name="textAreaBottom" fmla="*/ 11426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ف الإقلا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634600">
            <a:off x="2340000" y="4941720"/>
            <a:ext cx="3816360" cy="12258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6600"/>
                </a:solidFill>
                <a:latin typeface="Arial"/>
              </a:rPr>
              <a:t>ب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l-Hadith1"/>
              </a:rPr>
              <a:t>الإخفــــــــــ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ahoma"/>
                <a:cs typeface="Hesham Ghorn Italic"/>
              </a:rPr>
              <a:t>تعريفــ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و النطق بالنون الساكنة والتنوين وسطًا بين الإظه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إدغام مع بقاء الغ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2360" y="2852640"/>
            <a:ext cx="2664000" cy="1224000"/>
          </a:xfrm>
          <a:custGeom>
            <a:avLst/>
            <a:gdLst>
              <a:gd name="textAreaLeft" fmla="*/ 21960 w 2664000"/>
              <a:gd name="textAreaRight" fmla="*/ 2642040 w 266400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734080"/>
            <a:ext cx="8642160" cy="11239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ص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ف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ذ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ث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ن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ك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ج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ش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خص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ق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س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ا   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د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ط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يبً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ز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ea typeface="Akhbar MT"/>
              </a:rPr>
              <a:t> فـ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ي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ت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قى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ض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ع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ظ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لم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956720" y="3213000"/>
            <a:ext cx="86328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4581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653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4005360"/>
            <a:ext cx="79236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3284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7640" y="3357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32720" y="4869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ج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400536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3141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4508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321300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85080" y="4797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6000" y="3789360"/>
            <a:ext cx="8632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494172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869000"/>
            <a:ext cx="863640" cy="863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814760 w 6624720"/>
              <a:gd name="textAreaRight" fmla="*/ 4809960 w 6624720"/>
              <a:gd name="textAreaTop" fmla="*/ 446040 h 1628640"/>
              <a:gd name="textAreaBottom" fmla="*/ 118260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l-Hadith1"/>
              </a:rPr>
              <a:t>النون والميم المشدّدت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1484280"/>
            <a:ext cx="2987640" cy="1152720"/>
          </a:xfrm>
          <a:prstGeom prst="leftArrow">
            <a:avLst>
              <a:gd name="adj1" fmla="val 74380"/>
              <a:gd name="adj2" fmla="val 73447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Hesham Ghorn Italic"/>
              </a:rPr>
              <a:t>       </a:t>
            </a:r>
            <a:r>
              <a:rPr b="0" lang="hi-IN" sz="3200" spc="-1" strike="noStrike">
                <a:solidFill>
                  <a:srgbClr val="ff3300"/>
                </a:solidFill>
                <a:latin typeface="Arial"/>
                <a:cs typeface="Hesham Ghorn Italic"/>
              </a:rPr>
              <a:t>ما هو الحرف المشد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1700280"/>
            <a:ext cx="4319640" cy="8650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Al-Hadith1"/>
              </a:rPr>
              <a:t>هو حرفان الأول ساكن و الثاني متحر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3068640"/>
            <a:ext cx="165564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مثال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51640" y="3068640"/>
            <a:ext cx="10810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م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59280" y="3068640"/>
            <a:ext cx="5047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3068640"/>
            <a:ext cx="10810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م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3068640"/>
            <a:ext cx="504720" cy="646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3068640"/>
            <a:ext cx="10814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مّ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3933720"/>
            <a:ext cx="4824360" cy="503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و ما قيل في الميم يقال في النو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5516640"/>
            <a:ext cx="6985080" cy="1008000"/>
          </a:xfrm>
          <a:custGeom>
            <a:avLst/>
            <a:gdLst>
              <a:gd name="textAreaLeft" fmla="*/ 1506600 w 6985080"/>
              <a:gd name="textAreaRight" fmla="*/ 5478480 w 6985080"/>
              <a:gd name="textAreaTop" fmla="*/ 217440 h 1008000"/>
              <a:gd name="textAreaBottom" fmla="*/ 790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48" y="14053"/>
                </a:lnTo>
                <a:lnTo>
                  <a:pt x="3163" y="18437"/>
                </a:lnTo>
                <a:lnTo>
                  <a:pt x="7407" y="18794"/>
                </a:lnTo>
                <a:lnTo>
                  <a:pt x="10800" y="21600"/>
                </a:lnTo>
                <a:lnTo>
                  <a:pt x="14053" y="18852"/>
                </a:lnTo>
                <a:lnTo>
                  <a:pt x="18437" y="18437"/>
                </a:lnTo>
                <a:lnTo>
                  <a:pt x="18794" y="14193"/>
                </a:lnTo>
                <a:lnTo>
                  <a:pt x="21600" y="10800"/>
                </a:lnTo>
                <a:lnTo>
                  <a:pt x="18852" y="7547"/>
                </a:lnTo>
                <a:lnTo>
                  <a:pt x="18437" y="3163"/>
                </a:lnTo>
                <a:lnTo>
                  <a:pt x="14193" y="2806"/>
                </a:lnTo>
                <a:lnTo>
                  <a:pt x="10800" y="0"/>
                </a:lnTo>
                <a:lnTo>
                  <a:pt x="7547" y="2748"/>
                </a:lnTo>
                <a:lnTo>
                  <a:pt x="3163" y="3163"/>
                </a:lnTo>
                <a:lnTo>
                  <a:pt x="2806" y="740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00"/>
                </a:solidFill>
                <a:latin typeface="Arial"/>
                <a:cs typeface="Al-Hadith1"/>
              </a:rPr>
              <a:t>و يسميان حرف غنة مشد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24360" y="4508640"/>
            <a:ext cx="2951280" cy="865080"/>
          </a:xfrm>
          <a:prstGeom prst="ellipse">
            <a:avLst/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إ</a:t>
            </a: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نَّ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الأبرار لفي نع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4508640"/>
            <a:ext cx="2737080" cy="865080"/>
          </a:xfrm>
          <a:prstGeom prst="ellipse">
            <a:avLst/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ث</a:t>
            </a: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مَّ </a:t>
            </a: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كلا سوف تعل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050920" y="260280"/>
            <a:ext cx="5329440" cy="12970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Al-Hadith1"/>
              </a:rPr>
              <a:t>أحكام الميم الساكن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6000" y="1800360"/>
            <a:ext cx="3097080" cy="1197000"/>
          </a:xfrm>
          <a:custGeom>
            <a:avLst/>
            <a:gdLst>
              <a:gd name="textAreaLeft" fmla="*/ 705240 w 3097080"/>
              <a:gd name="textAreaRight" fmla="*/ 2391840 w 3097080"/>
              <a:gd name="textAreaTop" fmla="*/ 272520 h 1197000"/>
              <a:gd name="textAreaBottom" fmla="*/ 92448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9" y="13916"/>
                </a:lnTo>
                <a:lnTo>
                  <a:pt x="3163" y="18437"/>
                </a:lnTo>
                <a:lnTo>
                  <a:pt x="7550" y="18456"/>
                </a:lnTo>
                <a:lnTo>
                  <a:pt x="10800" y="21600"/>
                </a:lnTo>
                <a:lnTo>
                  <a:pt x="13916" y="18511"/>
                </a:lnTo>
                <a:lnTo>
                  <a:pt x="18437" y="18437"/>
                </a:lnTo>
                <a:lnTo>
                  <a:pt x="18456" y="14050"/>
                </a:lnTo>
                <a:lnTo>
                  <a:pt x="21600" y="10800"/>
                </a:lnTo>
                <a:lnTo>
                  <a:pt x="18511" y="7684"/>
                </a:lnTo>
                <a:lnTo>
                  <a:pt x="18437" y="3163"/>
                </a:lnTo>
                <a:lnTo>
                  <a:pt x="14050" y="3144"/>
                </a:lnTo>
                <a:lnTo>
                  <a:pt x="10800" y="0"/>
                </a:lnTo>
                <a:lnTo>
                  <a:pt x="7684" y="3089"/>
                </a:lnTo>
                <a:lnTo>
                  <a:pt x="3163" y="3163"/>
                </a:lnTo>
                <a:lnTo>
                  <a:pt x="3144" y="755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00"/>
                </a:solidFill>
                <a:latin typeface="Arial"/>
              </a:rPr>
              <a:t>ما هي الميم الساكن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916280"/>
            <a:ext cx="4176720" cy="792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cc"/>
                </a:solidFill>
                <a:latin typeface="Arial"/>
              </a:rPr>
              <a:t>هي التي لا حركة ل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2851200"/>
            <a:ext cx="201636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6600cc"/>
                </a:solidFill>
                <a:latin typeface="Arial"/>
              </a:rPr>
              <a:t>أمثلة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4149720"/>
            <a:ext cx="3240360" cy="1628640"/>
          </a:xfrm>
          <a:custGeom>
            <a:avLst/>
            <a:gdLst>
              <a:gd name="textAreaLeft" fmla="*/ 757440 w 3240360"/>
              <a:gd name="textAreaRight" fmla="*/ 2482920 w 3240360"/>
              <a:gd name="textAreaTop" fmla="*/ 380520 h 1628640"/>
              <a:gd name="textAreaBottom" fmla="*/ 124812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59" y="13847"/>
                </a:lnTo>
                <a:lnTo>
                  <a:pt x="3163" y="18437"/>
                </a:lnTo>
                <a:lnTo>
                  <a:pt x="7622" y="18286"/>
                </a:lnTo>
                <a:lnTo>
                  <a:pt x="10800" y="21600"/>
                </a:lnTo>
                <a:lnTo>
                  <a:pt x="13847" y="18341"/>
                </a:lnTo>
                <a:lnTo>
                  <a:pt x="18437" y="18437"/>
                </a:lnTo>
                <a:lnTo>
                  <a:pt x="18286" y="13978"/>
                </a:lnTo>
                <a:lnTo>
                  <a:pt x="21600" y="10800"/>
                </a:lnTo>
                <a:lnTo>
                  <a:pt x="18341" y="7753"/>
                </a:lnTo>
                <a:lnTo>
                  <a:pt x="18437" y="3163"/>
                </a:lnTo>
                <a:lnTo>
                  <a:pt x="13978" y="3314"/>
                </a:lnTo>
                <a:lnTo>
                  <a:pt x="10800" y="0"/>
                </a:lnTo>
                <a:lnTo>
                  <a:pt x="7753" y="3259"/>
                </a:lnTo>
                <a:lnTo>
                  <a:pt x="3163" y="3163"/>
                </a:lnTo>
                <a:lnTo>
                  <a:pt x="3314" y="762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حكيمْ</a:t>
            </a:r>
            <a:r>
              <a:rPr b="0" lang="ar-SA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4149720"/>
            <a:ext cx="3240000" cy="1628640"/>
          </a:xfrm>
          <a:custGeom>
            <a:avLst/>
            <a:gdLst>
              <a:gd name="textAreaLeft" fmla="*/ 742680 w 3240000"/>
              <a:gd name="textAreaRight" fmla="*/ 2497320 w 3240000"/>
              <a:gd name="textAreaTop" fmla="*/ 373320 h 1628640"/>
              <a:gd name="textAreaBottom" fmla="*/ 125532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31" y="13898"/>
                </a:lnTo>
                <a:lnTo>
                  <a:pt x="3163" y="18437"/>
                </a:lnTo>
                <a:lnTo>
                  <a:pt x="7568" y="18413"/>
                </a:lnTo>
                <a:lnTo>
                  <a:pt x="10800" y="21600"/>
                </a:lnTo>
                <a:lnTo>
                  <a:pt x="13898" y="18469"/>
                </a:lnTo>
                <a:lnTo>
                  <a:pt x="18437" y="18437"/>
                </a:lnTo>
                <a:lnTo>
                  <a:pt x="18413" y="14032"/>
                </a:lnTo>
                <a:lnTo>
                  <a:pt x="21600" y="10800"/>
                </a:lnTo>
                <a:lnTo>
                  <a:pt x="18469" y="7702"/>
                </a:lnTo>
                <a:lnTo>
                  <a:pt x="18437" y="3163"/>
                </a:lnTo>
                <a:lnTo>
                  <a:pt x="14032" y="3187"/>
                </a:lnTo>
                <a:lnTo>
                  <a:pt x="10800" y="0"/>
                </a:lnTo>
                <a:lnTo>
                  <a:pt x="7702" y="3131"/>
                </a:lnTo>
                <a:lnTo>
                  <a:pt x="3163" y="3163"/>
                </a:lnTo>
                <a:lnTo>
                  <a:pt x="3187" y="7568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تمْسون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flipH="1">
            <a:off x="1979640" y="2133720"/>
            <a:ext cx="1512720" cy="187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2133720"/>
            <a:ext cx="1439640" cy="208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16360" y="2133720"/>
            <a:ext cx="71640" cy="201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4365720"/>
            <a:ext cx="201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45fed"/>
                </a:solidFill>
                <a:latin typeface="Arial"/>
              </a:rPr>
              <a:t>الإخفاء الشفو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4221000"/>
            <a:ext cx="2016000" cy="122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45fed"/>
                </a:solidFill>
                <a:latin typeface="Arial"/>
              </a:rPr>
              <a:t>الإدغام الصغير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4149720"/>
            <a:ext cx="201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45fed"/>
                </a:solidFill>
                <a:latin typeface="Arial"/>
              </a:rPr>
              <a:t>الإظهار الشف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260280"/>
            <a:ext cx="7705800" cy="1440000"/>
          </a:xfrm>
          <a:custGeom>
            <a:avLst/>
            <a:gdLst>
              <a:gd name="textAreaLeft" fmla="*/ 1087200 w 7705800"/>
              <a:gd name="textAreaRight" fmla="*/ 6618600 w 7705800"/>
              <a:gd name="textAreaTop" fmla="*/ 157680 h 1440000"/>
              <a:gd name="textAreaBottom" fmla="*/ 9097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7954"/>
                </a:moveTo>
                <a:arcTo wR="21600" hR="35552" stAng="-6559790" swAng="370838"/>
                <a:lnTo>
                  <a:pt x="3048" y="2368"/>
                </a:lnTo>
                <a:arcTo wR="21600" hR="35552" stAng="-6188952" swAng="1577904"/>
                <a:lnTo>
                  <a:pt x="18552" y="5559"/>
                </a:lnTo>
                <a:arcTo wR="21600" hR="35552" stAng="-4611048" swAng="370838"/>
                <a:lnTo>
                  <a:pt x="18900" y="12608"/>
                </a:lnTo>
                <a:lnTo>
                  <a:pt x="21600" y="21600"/>
                </a:lnTo>
                <a:lnTo>
                  <a:pt x="21600" y="21600"/>
                </a:lnTo>
                <a:arcTo wR="21600" hR="35552" stAng="-4240210" swAng="-660870"/>
                <a:lnTo>
                  <a:pt x="15852" y="14632"/>
                </a:lnTo>
                <a:arcTo wR="21600" hR="35552" stAng="-4901081" swAng="-997839"/>
                <a:lnTo>
                  <a:pt x="5748" y="17823"/>
                </a:lnTo>
                <a:arcTo wR="21600" hR="35552" stAng="-5898919" swAng="-660870"/>
                <a:lnTo>
                  <a:pt x="2700" y="12608"/>
                </a:lnTo>
                <a:close/>
              </a:path>
              <a:path fill="none" w="21600" h="21600">
                <a:moveTo>
                  <a:pt x="5748" y="14632"/>
                </a:moveTo>
                <a:arcTo wR="21600" hR="35552" stAng="-5898919" swAng="-290033"/>
                <a:lnTo>
                  <a:pt x="5748" y="17823"/>
                </a:lnTo>
              </a:path>
              <a:path fill="none" w="21600" h="21600">
                <a:moveTo>
                  <a:pt x="15852" y="14632"/>
                </a:moveTo>
                <a:arcTo wR="21600" hR="35552" stAng="-4901081" swAng="290033"/>
                <a:lnTo>
                  <a:pt x="15852" y="17823"/>
                </a:lnTo>
              </a:path>
              <a:path fill="none" w="21600" h="21600">
                <a:moveTo>
                  <a:pt x="3048" y="5559"/>
                </a:moveTo>
                <a:lnTo>
                  <a:pt x="3048" y="16014"/>
                </a:lnTo>
              </a:path>
              <a:path fill="none" w="21600" h="21600">
                <a:moveTo>
                  <a:pt x="18552" y="5559"/>
                </a:moveTo>
                <a:lnTo>
                  <a:pt x="18552" y="16014"/>
                </a:lnTo>
              </a:path>
            </a:pathLst>
          </a:cu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66cc"/>
                </a:solidFill>
                <a:latin typeface="Tahoma"/>
                <a:cs typeface="Tahoma"/>
              </a:rPr>
              <a:t>أحكام الميم الساكن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3640" y="1413000"/>
            <a:ext cx="3168720" cy="64764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ahoma"/>
              </a:rPr>
              <a:t>ثلاثة أحكــام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خفاء الشفو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إذا جاء بعد الميم الساكنة حرف الباء فإن حكمها   الإخفاء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cc"/>
                </a:solidFill>
                <a:latin typeface="Tahoma"/>
              </a:rPr>
              <a:t>و هو نطقها وسطًا بين الإدغام و الإظهار مع الغن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3500280"/>
            <a:ext cx="284328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لماذا سمي إخفاء شف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3429000"/>
            <a:ext cx="504036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لخروج الباء و الميم من الشفت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6920" y="4797360"/>
            <a:ext cx="7848720" cy="1366920"/>
          </a:xfrm>
          <a:prstGeom prst="flowChart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إنَّ الذين يخشون ربه</a:t>
            </a:r>
            <a:r>
              <a:rPr b="0" lang="hi-IN" sz="3600" spc="-1" strike="noStrike">
                <a:solidFill>
                  <a:srgbClr val="006600"/>
                </a:solidFill>
                <a:latin typeface="Arial"/>
              </a:rPr>
              <a:t>ـم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3600" spc="-1" strike="noStrike">
                <a:solidFill>
                  <a:srgbClr val="ff3300"/>
                </a:solidFill>
                <a:latin typeface="Arial"/>
              </a:rPr>
              <a:t>بـ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غيب لهم مغفرة وأجر كبي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دغام الص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تدغم الميم الساكنة إذا جاء بعدها حرف واحد وهو( الميم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إدغامًا صغيرًا بحيث يصبحان حرفًا واحدًا مشددًا مع الغن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24360" y="3500280"/>
            <a:ext cx="327672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اذا سمي إدغامًا صغيرً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3429000"/>
            <a:ext cx="540072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سكون الحرف الأول و تحريك الثان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797360"/>
            <a:ext cx="6335640" cy="1366920"/>
          </a:xfrm>
          <a:prstGeom prst="flowChart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و أسقيناكــ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</a:rPr>
              <a:t>م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م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اءً فراتًا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ظهار الشفو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إذا جاء بعد الميم الساكنة جميع حروف الهج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 ( ما عدا الباء و الميم )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3500280"/>
            <a:ext cx="284328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اذا سمي إظهارًا شفويً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3429000"/>
            <a:ext cx="504036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أن الميم تخرج من الشفتي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4869000"/>
            <a:ext cx="2448000" cy="1224000"/>
          </a:xfrm>
          <a:custGeom>
            <a:avLst/>
            <a:gdLst>
              <a:gd name="textAreaLeft" fmla="*/ 20160 w 2448000"/>
              <a:gd name="textAreaRight" fmla="*/ 2427840 w 244800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5084640"/>
            <a:ext cx="5473440" cy="1440000"/>
          </a:xfrm>
          <a:prstGeom prst="flowChartPreparation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جميع حروف الهجاء ما عدا الميم و الباء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814760 w 6624720"/>
              <a:gd name="textAreaRight" fmla="*/ 4809960 w 6624720"/>
              <a:gd name="textAreaTop" fmla="*/ 446040 h 1628640"/>
              <a:gd name="textAreaBottom" fmla="*/ 118260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Al-Hadith1"/>
              </a:rPr>
              <a:t>المـــد  و أقسام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1484280"/>
            <a:ext cx="3384720" cy="1152720"/>
          </a:xfrm>
          <a:prstGeom prst="cloudCallout">
            <a:avLst>
              <a:gd name="adj1" fmla="val 47185"/>
              <a:gd name="adj2" fmla="val 27134"/>
            </a:avLst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c45fed"/>
                </a:solidFill>
                <a:latin typeface="Arial"/>
              </a:rPr>
              <a:t>ما هو المد 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773360"/>
            <a:ext cx="4464000" cy="863640"/>
          </a:xfrm>
          <a:prstGeom prst="flowChartDocumen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c45fed"/>
                </a:solidFill>
                <a:latin typeface="Arial"/>
              </a:rPr>
              <a:t>إطالة الصوت بحرف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63640" y="3284640"/>
            <a:ext cx="4969080" cy="1296720"/>
          </a:xfrm>
          <a:prstGeom prst="cloudCallout">
            <a:avLst>
              <a:gd name="adj1" fmla="val 64666"/>
              <a:gd name="adj2" fmla="val 15115"/>
            </a:avLst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c45fed"/>
                </a:solidFill>
                <a:latin typeface="Arial"/>
              </a:rPr>
              <a:t>ما هي حروف المد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5229360"/>
            <a:ext cx="14414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c45fed"/>
                </a:solidFill>
                <a:latin typeface="Arial"/>
              </a:rPr>
              <a:t>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5300640"/>
            <a:ext cx="1366920" cy="1009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45fed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5157720"/>
            <a:ext cx="1440000" cy="1150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c45fed"/>
                </a:solidFill>
                <a:latin typeface="Arial"/>
              </a:rPr>
              <a:t>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84720" y="4221000"/>
            <a:ext cx="1079640" cy="93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859280" y="4365720"/>
            <a:ext cx="21744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268360" y="4508640"/>
            <a:ext cx="144000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b7"/>
                </a:solidFill>
                <a:latin typeface="Arial Black"/>
                <a:cs typeface="Al-Hadith1"/>
              </a:rPr>
              <a:t>دورة مبسطة </a:t>
            </a:r>
            <a:br>
              <a:rPr sz="8000"/>
            </a:br>
            <a:r>
              <a:rPr b="1" lang="hi-IN" sz="8000" spc="-1" strike="noStrike">
                <a:solidFill>
                  <a:srgbClr val="ffffb7"/>
                </a:solidFill>
                <a:latin typeface="Arial Black"/>
                <a:cs typeface="Al-Hadith1"/>
              </a:rPr>
              <a:t>في علم التجويد</a:t>
            </a: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3330360"/>
            <a:ext cx="800748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608840 w 6624720"/>
              <a:gd name="textAreaRight" fmla="*/ 5015880 w 6624720"/>
              <a:gd name="textAreaTop" fmla="*/ 395280 h 1628640"/>
              <a:gd name="textAreaBottom" fmla="*/ 123336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517" y="13743"/>
                </a:lnTo>
                <a:lnTo>
                  <a:pt x="3163" y="18437"/>
                </a:lnTo>
                <a:lnTo>
                  <a:pt x="7731" y="18031"/>
                </a:lnTo>
                <a:lnTo>
                  <a:pt x="10800" y="21600"/>
                </a:lnTo>
                <a:lnTo>
                  <a:pt x="13743" y="18083"/>
                </a:lnTo>
                <a:lnTo>
                  <a:pt x="18437" y="18437"/>
                </a:lnTo>
                <a:lnTo>
                  <a:pt x="18031" y="13869"/>
                </a:lnTo>
                <a:lnTo>
                  <a:pt x="21600" y="10800"/>
                </a:lnTo>
                <a:lnTo>
                  <a:pt x="18083" y="7857"/>
                </a:lnTo>
                <a:lnTo>
                  <a:pt x="18437" y="3163"/>
                </a:lnTo>
                <a:lnTo>
                  <a:pt x="13869" y="3569"/>
                </a:lnTo>
                <a:lnTo>
                  <a:pt x="10800" y="0"/>
                </a:lnTo>
                <a:lnTo>
                  <a:pt x="7857" y="3517"/>
                </a:lnTo>
                <a:lnTo>
                  <a:pt x="3163" y="3163"/>
                </a:lnTo>
                <a:lnTo>
                  <a:pt x="3569" y="7731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  <a:cs typeface="Hesham Ghorn Italic"/>
              </a:rPr>
              <a:t>أقســـــــام المد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80000" y="1413000"/>
            <a:ext cx="100800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059280" y="1413000"/>
            <a:ext cx="50616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19640" y="2205000"/>
            <a:ext cx="3924360" cy="3095640"/>
          </a:xfrm>
          <a:custGeom>
            <a:avLst/>
            <a:gdLst>
              <a:gd name="textAreaLeft" fmla="*/ 939240 w 3924360"/>
              <a:gd name="textAreaRight" fmla="*/ 2985120 w 3924360"/>
              <a:gd name="textAreaTop" fmla="*/ 740880 h 3095640"/>
              <a:gd name="textAreaBottom" fmla="*/ 235476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17" y="13783"/>
                </a:lnTo>
                <a:lnTo>
                  <a:pt x="3163" y="18437"/>
                </a:lnTo>
                <a:lnTo>
                  <a:pt x="7689" y="18130"/>
                </a:lnTo>
                <a:lnTo>
                  <a:pt x="10800" y="21600"/>
                </a:lnTo>
                <a:lnTo>
                  <a:pt x="13783" y="18183"/>
                </a:lnTo>
                <a:lnTo>
                  <a:pt x="18437" y="18437"/>
                </a:lnTo>
                <a:lnTo>
                  <a:pt x="18130" y="13911"/>
                </a:lnTo>
                <a:lnTo>
                  <a:pt x="21600" y="10800"/>
                </a:lnTo>
                <a:lnTo>
                  <a:pt x="18183" y="7817"/>
                </a:lnTo>
                <a:lnTo>
                  <a:pt x="18437" y="3163"/>
                </a:lnTo>
                <a:lnTo>
                  <a:pt x="13911" y="3470"/>
                </a:lnTo>
                <a:lnTo>
                  <a:pt x="10800" y="0"/>
                </a:lnTo>
                <a:lnTo>
                  <a:pt x="7817" y="3417"/>
                </a:lnTo>
                <a:lnTo>
                  <a:pt x="3163" y="3163"/>
                </a:lnTo>
                <a:lnTo>
                  <a:pt x="3470" y="7689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المد الطبيعي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2205000"/>
            <a:ext cx="4032360" cy="3095640"/>
          </a:xfrm>
          <a:custGeom>
            <a:avLst/>
            <a:gdLst>
              <a:gd name="textAreaLeft" fmla="*/ 964800 w 4032360"/>
              <a:gd name="textAreaRight" fmla="*/ 3067560 w 4032360"/>
              <a:gd name="textAreaTop" fmla="*/ 740880 h 3095640"/>
              <a:gd name="textAreaBottom" fmla="*/ 235476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17" y="13783"/>
                </a:lnTo>
                <a:lnTo>
                  <a:pt x="3163" y="18437"/>
                </a:lnTo>
                <a:lnTo>
                  <a:pt x="7689" y="18130"/>
                </a:lnTo>
                <a:lnTo>
                  <a:pt x="10800" y="21600"/>
                </a:lnTo>
                <a:lnTo>
                  <a:pt x="13783" y="18183"/>
                </a:lnTo>
                <a:lnTo>
                  <a:pt x="18437" y="18437"/>
                </a:lnTo>
                <a:lnTo>
                  <a:pt x="18130" y="13911"/>
                </a:lnTo>
                <a:lnTo>
                  <a:pt x="21600" y="10800"/>
                </a:lnTo>
                <a:lnTo>
                  <a:pt x="18183" y="7817"/>
                </a:lnTo>
                <a:lnTo>
                  <a:pt x="18437" y="3163"/>
                </a:lnTo>
                <a:lnTo>
                  <a:pt x="13911" y="3470"/>
                </a:lnTo>
                <a:lnTo>
                  <a:pt x="10800" y="0"/>
                </a:lnTo>
                <a:lnTo>
                  <a:pt x="7817" y="3417"/>
                </a:lnTo>
                <a:lnTo>
                  <a:pt x="3163" y="3163"/>
                </a:lnTo>
                <a:lnTo>
                  <a:pt x="3470" y="7689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المد الفرعي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556000" y="260280"/>
            <a:ext cx="4392360" cy="100800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45fed"/>
                </a:solidFill>
                <a:latin typeface="Arial"/>
                <a:cs typeface="Al-Hadith1"/>
              </a:rPr>
              <a:t>المـــد الطبيعي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  <a:ea typeface="Al-Hadith1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43640" y="1413000"/>
            <a:ext cx="2449440" cy="792000"/>
          </a:xfrm>
          <a:prstGeom prst="flowChartPreparation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29080" y="2637000"/>
            <a:ext cx="4535640" cy="86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صل و الوق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84720" y="4005360"/>
            <a:ext cx="4680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قف دون الوص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5661000"/>
            <a:ext cx="4788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صل دون الوق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1557360"/>
            <a:ext cx="57592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هو الذي لا يتوقف على سبب من همز أو سكو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و يمد بمقدار حركتي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2637000"/>
            <a:ext cx="374328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3300"/>
                </a:solidFill>
                <a:latin typeface="Arial"/>
              </a:rPr>
              <a:t>سلا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هي حتى مطلع الفج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3860640"/>
            <a:ext cx="3743280" cy="1081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 وجدك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</a:rPr>
              <a:t>ضالاً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فهد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0920" y="5589720"/>
            <a:ext cx="3743280" cy="107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سبح بحمد ربك و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ستغف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619280" y="0"/>
            <a:ext cx="6121440" cy="1628640"/>
          </a:xfrm>
          <a:custGeom>
            <a:avLst/>
            <a:gdLst>
              <a:gd name="textAreaLeft" fmla="*/ 1340280 w 6121440"/>
              <a:gd name="textAreaRight" fmla="*/ 4781160 w 6121440"/>
              <a:gd name="textAreaTop" fmla="*/ 356400 h 1628640"/>
              <a:gd name="textAreaBottom" fmla="*/ 127224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0" y="14016"/>
                </a:lnTo>
                <a:lnTo>
                  <a:pt x="3163" y="18437"/>
                </a:lnTo>
                <a:lnTo>
                  <a:pt x="7446" y="18703"/>
                </a:lnTo>
                <a:lnTo>
                  <a:pt x="10800" y="21600"/>
                </a:lnTo>
                <a:lnTo>
                  <a:pt x="14016" y="18760"/>
                </a:lnTo>
                <a:lnTo>
                  <a:pt x="18437" y="18437"/>
                </a:lnTo>
                <a:lnTo>
                  <a:pt x="18703" y="14154"/>
                </a:lnTo>
                <a:lnTo>
                  <a:pt x="21600" y="10800"/>
                </a:lnTo>
                <a:lnTo>
                  <a:pt x="18760" y="7584"/>
                </a:lnTo>
                <a:lnTo>
                  <a:pt x="18437" y="3163"/>
                </a:lnTo>
                <a:lnTo>
                  <a:pt x="14154" y="2897"/>
                </a:lnTo>
                <a:lnTo>
                  <a:pt x="10800" y="0"/>
                </a:lnTo>
                <a:lnTo>
                  <a:pt x="7584" y="2840"/>
                </a:lnTo>
                <a:lnTo>
                  <a:pt x="3163" y="3163"/>
                </a:lnTo>
                <a:lnTo>
                  <a:pt x="2897" y="744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cc"/>
                </a:solidFill>
                <a:latin typeface="Arial"/>
                <a:cs typeface="Hesham Bold"/>
              </a:rPr>
              <a:t>أقســام المد الفرعي</a:t>
            </a:r>
            <a:r>
              <a:rPr b="0" lang="ar-SA" sz="7200" spc="-1" strike="noStrike">
                <a:solidFill>
                  <a:srgbClr val="ffffff"/>
                </a:solidFill>
                <a:latin typeface="Arial"/>
                <a:ea typeface="Hesham Ghorn Italic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48360" y="177336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متصل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56000" y="5084640"/>
            <a:ext cx="2195280" cy="1152720"/>
          </a:xfrm>
          <a:custGeom>
            <a:avLst/>
            <a:gdLst>
              <a:gd name="textAreaLeft" fmla="*/ 383040 w 2195280"/>
              <a:gd name="textAreaRight" fmla="*/ 1812240 w 219528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لمد العا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للسكون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328464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منفص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1844640"/>
            <a:ext cx="2195640" cy="115272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لاز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00720" y="486900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مد البدل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3500280"/>
            <a:ext cx="2195640" cy="115272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مد الل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1413000"/>
            <a:ext cx="136836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64000" y="1628640"/>
            <a:ext cx="1440000" cy="1729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1700280"/>
            <a:ext cx="1368360" cy="3024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95280" y="1700280"/>
            <a:ext cx="505080" cy="338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42920" y="1557360"/>
            <a:ext cx="1152360" cy="1942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340000" y="1484280"/>
            <a:ext cx="1295280" cy="72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4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4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68360" y="144360"/>
            <a:ext cx="4176720" cy="1413000"/>
          </a:xfrm>
          <a:custGeom>
            <a:avLst/>
            <a:gdLst>
              <a:gd name="textAreaLeft" fmla="*/ 862200 w 4176720"/>
              <a:gd name="textAreaRight" fmla="*/ 3314520 w 4176720"/>
              <a:gd name="textAreaTop" fmla="*/ 291600 h 1413000"/>
              <a:gd name="textAreaBottom" fmla="*/ 112140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87" y="14159"/>
                </a:lnTo>
                <a:lnTo>
                  <a:pt x="3163" y="18437"/>
                </a:lnTo>
                <a:lnTo>
                  <a:pt x="7297" y="19053"/>
                </a:lnTo>
                <a:lnTo>
                  <a:pt x="10800" y="21600"/>
                </a:lnTo>
                <a:lnTo>
                  <a:pt x="14159" y="19113"/>
                </a:lnTo>
                <a:lnTo>
                  <a:pt x="18437" y="18437"/>
                </a:lnTo>
                <a:lnTo>
                  <a:pt x="19053" y="14303"/>
                </a:lnTo>
                <a:lnTo>
                  <a:pt x="21600" y="10800"/>
                </a:lnTo>
                <a:lnTo>
                  <a:pt x="19113" y="7441"/>
                </a:lnTo>
                <a:lnTo>
                  <a:pt x="18437" y="3163"/>
                </a:lnTo>
                <a:lnTo>
                  <a:pt x="14303" y="2547"/>
                </a:lnTo>
                <a:lnTo>
                  <a:pt x="10800" y="0"/>
                </a:lnTo>
                <a:lnTo>
                  <a:pt x="7441" y="2487"/>
                </a:lnTo>
                <a:lnTo>
                  <a:pt x="3163" y="3163"/>
                </a:lnTo>
                <a:lnTo>
                  <a:pt x="2547" y="729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7400"/>
              </a:gs>
              <a:gs pos="50000">
                <a:srgbClr val="99cc00"/>
              </a:gs>
              <a:gs pos="100000">
                <a:srgbClr val="577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Arial"/>
              </a:rPr>
              <a:t>المد المتص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2720" y="1628640"/>
            <a:ext cx="6120000" cy="863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cc"/>
                </a:solidFill>
                <a:latin typeface="Arial"/>
                <a:cs typeface="Akhbar MT"/>
              </a:rPr>
              <a:t>هو أن تأتي الهمزة بعد حرف المد في كلمة واحد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esham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DecoType Naskh Variants"/>
              </a:rPr>
              <a:t>إذا السم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  <a:cs typeface="DecoType Naskh Variants"/>
              </a:rPr>
              <a:t>ـا</a:t>
            </a: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DecoType Naskh Variants"/>
              </a:rPr>
              <a:t>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DecoType Naskh Variants"/>
              </a:rPr>
              <a:t>  انفطرت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CS  Morg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5300640"/>
            <a:ext cx="6048360" cy="1297080"/>
          </a:xfrm>
          <a:prstGeom prst="wedgeEllipseCallout">
            <a:avLst>
              <a:gd name="adj1" fmla="val 48768"/>
              <a:gd name="adj2" fmla="val 1083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يمد بمقدار أربع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أو خمس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3933720"/>
            <a:ext cx="3457440" cy="8654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وجوب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484360" y="189000"/>
            <a:ext cx="5545080" cy="1152360"/>
          </a:xfrm>
          <a:custGeom>
            <a:avLst/>
            <a:gdLst>
              <a:gd name="textAreaLeft" fmla="*/ 811800 w 5545080"/>
              <a:gd name="textAreaRight" fmla="*/ 4733280 w 5545080"/>
              <a:gd name="textAreaTop" fmla="*/ 168480 h 1152360"/>
              <a:gd name="textAreaBottom" fmla="*/ 9838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7eef7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Arial"/>
              </a:rPr>
              <a:t>المد المنفص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1339920"/>
            <a:ext cx="6119640" cy="1225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cc"/>
                </a:solidFill>
                <a:latin typeface="Arial"/>
              </a:rPr>
              <a:t>هو أن يأتي حرف المد في آخر الكلم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cc"/>
                </a:solidFill>
                <a:latin typeface="Arial"/>
              </a:rPr>
              <a:t>و الهمزة  في  أول الكلمة التي تلي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ل</a:t>
            </a: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آ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ea typeface="Akhbar MT"/>
              </a:rPr>
              <a:t> </a:t>
            </a: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أ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عبد ما تعبدون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35280" y="3933720"/>
            <a:ext cx="3457440" cy="8654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جواز 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5300640"/>
            <a:ext cx="6048360" cy="1297080"/>
          </a:xfrm>
          <a:prstGeom prst="wedgeEllipseCallout">
            <a:avLst>
              <a:gd name="adj1" fmla="val 48768"/>
              <a:gd name="adj2" fmla="val 1083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يمد بمقدار أربع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أو خمس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4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651640" y="0"/>
            <a:ext cx="3384360" cy="1125360"/>
          </a:xfrm>
          <a:custGeom>
            <a:avLst/>
            <a:gdLst>
              <a:gd name="textAreaLeft" fmla="*/ 684000 w 3384360"/>
              <a:gd name="textAreaRight" fmla="*/ 2700360 w 3384360"/>
              <a:gd name="textAreaTop" fmla="*/ 227520 h 1125360"/>
              <a:gd name="textAreaBottom" fmla="*/ 89784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64" y="14208"/>
                </a:lnTo>
                <a:lnTo>
                  <a:pt x="3163" y="18437"/>
                </a:lnTo>
                <a:lnTo>
                  <a:pt x="7245" y="19175"/>
                </a:lnTo>
                <a:lnTo>
                  <a:pt x="10800" y="21600"/>
                </a:lnTo>
                <a:lnTo>
                  <a:pt x="14208" y="19236"/>
                </a:lnTo>
                <a:lnTo>
                  <a:pt x="18437" y="18437"/>
                </a:lnTo>
                <a:lnTo>
                  <a:pt x="19175" y="14355"/>
                </a:lnTo>
                <a:lnTo>
                  <a:pt x="21600" y="10800"/>
                </a:lnTo>
                <a:lnTo>
                  <a:pt x="19236" y="7392"/>
                </a:lnTo>
                <a:lnTo>
                  <a:pt x="18437" y="3163"/>
                </a:lnTo>
                <a:lnTo>
                  <a:pt x="14355" y="2425"/>
                </a:lnTo>
                <a:lnTo>
                  <a:pt x="10800" y="0"/>
                </a:lnTo>
                <a:lnTo>
                  <a:pt x="7392" y="2364"/>
                </a:lnTo>
                <a:lnTo>
                  <a:pt x="3163" y="3163"/>
                </a:lnTo>
                <a:lnTo>
                  <a:pt x="2425" y="72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7400"/>
              </a:gs>
              <a:gs pos="50000">
                <a:srgbClr val="99cc00"/>
              </a:gs>
              <a:gs pos="100000">
                <a:srgbClr val="577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3300"/>
                </a:solidFill>
                <a:latin typeface="Arial"/>
              </a:rPr>
              <a:t>مد البد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48360" y="1268280"/>
            <a:ext cx="2160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43640" y="2349360"/>
            <a:ext cx="1800360" cy="1079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4221000"/>
            <a:ext cx="2089080" cy="93528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32720" y="573408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5634000"/>
            <a:ext cx="4608360" cy="963720"/>
          </a:xfrm>
          <a:prstGeom prst="wedgeEllipseCallout">
            <a:avLst>
              <a:gd name="adj1" fmla="val 72837"/>
              <a:gd name="adj2" fmla="val 14087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khbar MT"/>
              </a:rPr>
              <a:t>يمد حركت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620640"/>
            <a:ext cx="6553080" cy="1944720"/>
          </a:xfrm>
          <a:custGeom>
            <a:avLst/>
            <a:gdLst>
              <a:gd name="textAreaLeft" fmla="*/ 0 w 6553080"/>
              <a:gd name="textAreaRight" fmla="*/ 6553440 w 655308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7" y="0"/>
                </a:lnTo>
                <a:lnTo>
                  <a:pt x="21600" y="10800"/>
                </a:lnTo>
                <a:lnTo>
                  <a:pt x="179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ما كان أصله همزتين فأبدلت الثانية بحرف مد في كلمة واح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و الأصل في الكلمة التي تشتمل على مد بدل أن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khbar MT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تبدأ بهمز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فأبدلت الهمزة الثانية من جنس حركة الهمز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  <a:ea typeface="AL-Hor Outlin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637000"/>
            <a:ext cx="7524720" cy="1871640"/>
          </a:xfrm>
          <a:prstGeom prst="cloudCallout">
            <a:avLst>
              <a:gd name="adj1" fmla="val 50273"/>
              <a:gd name="adj2" fmla="val -65435"/>
            </a:avLst>
          </a:prstGeom>
          <a:gradFill rotWithShape="0">
            <a:gsLst>
              <a:gs pos="0">
                <a:srgbClr val="1e7a99"/>
              </a:gs>
              <a:gs pos="50000">
                <a:srgbClr val="33ccff"/>
              </a:gs>
              <a:gs pos="100000">
                <a:srgbClr val="1e7a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قال تعالى  ( فأمّا من </a:t>
            </a:r>
            <a:r>
              <a:rPr b="1" lang="hi-IN" sz="2800" spc="-1" strike="noStrike">
                <a:solidFill>
                  <a:srgbClr val="ff3300"/>
                </a:solidFill>
                <a:latin typeface="Arial"/>
                <a:cs typeface="Akhbar MT"/>
              </a:rPr>
              <a:t>أُوتي </a:t>
            </a: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كتابه بيمين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أصل الكلمة (</a:t>
            </a:r>
            <a:r>
              <a:rPr b="1" lang="hi-IN" sz="2800" spc="-1" strike="noStrike">
                <a:solidFill>
                  <a:srgbClr val="ff3300"/>
                </a:solidFill>
                <a:latin typeface="Arial"/>
                <a:cs typeface="Akhbar MT"/>
              </a:rPr>
              <a:t>أُأُتي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khbar MT"/>
              </a:rPr>
              <a:t> )فأبدلت الهمزة الثانية بحرف المد الواو لأنه من جنس الهمزة و هي الض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58920" y="4653000"/>
            <a:ext cx="3672000" cy="792000"/>
          </a:xfrm>
          <a:prstGeom prst="wedgeEllipseCallout">
            <a:avLst>
              <a:gd name="adj1" fmla="val 96305"/>
              <a:gd name="adj2" fmla="val -16532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جواز المد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4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619280" y="144360"/>
            <a:ext cx="5689440" cy="1123920"/>
          </a:xfrm>
          <a:custGeom>
            <a:avLst/>
            <a:gdLst>
              <a:gd name="textAreaLeft" fmla="*/ 931320 w 5689440"/>
              <a:gd name="textAreaRight" fmla="*/ 4758120 w 5689440"/>
              <a:gd name="textAreaTop" fmla="*/ 183960 h 1123920"/>
              <a:gd name="textAreaBottom" fmla="*/ 93996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275" y="14648"/>
                </a:lnTo>
                <a:lnTo>
                  <a:pt x="3163" y="18437"/>
                </a:lnTo>
                <a:lnTo>
                  <a:pt x="6786" y="20256"/>
                </a:lnTo>
                <a:lnTo>
                  <a:pt x="10800" y="21600"/>
                </a:lnTo>
                <a:lnTo>
                  <a:pt x="14648" y="20325"/>
                </a:lnTo>
                <a:lnTo>
                  <a:pt x="18437" y="18437"/>
                </a:lnTo>
                <a:lnTo>
                  <a:pt x="20256" y="14814"/>
                </a:lnTo>
                <a:lnTo>
                  <a:pt x="21600" y="10800"/>
                </a:lnTo>
                <a:lnTo>
                  <a:pt x="20325" y="6952"/>
                </a:lnTo>
                <a:lnTo>
                  <a:pt x="18437" y="3163"/>
                </a:lnTo>
                <a:lnTo>
                  <a:pt x="14814" y="1344"/>
                </a:lnTo>
                <a:lnTo>
                  <a:pt x="10800" y="0"/>
                </a:lnTo>
                <a:lnTo>
                  <a:pt x="6952" y="1275"/>
                </a:lnTo>
                <a:lnTo>
                  <a:pt x="3163" y="3163"/>
                </a:lnTo>
                <a:lnTo>
                  <a:pt x="1344" y="678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1d1d1"/>
              </a:gs>
              <a:gs pos="50000">
                <a:srgbClr val="dddddd"/>
              </a:gs>
              <a:gs pos="100000">
                <a:srgbClr val="d1d1d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111111"/>
                </a:solidFill>
                <a:latin typeface="Arial"/>
              </a:rPr>
              <a:t>المد العارض للسكو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1413000"/>
            <a:ext cx="6120000" cy="115236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50000">
                <a:srgbClr val="fefefe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Arial"/>
                <a:cs typeface="Arabic Transparent"/>
              </a:rPr>
              <a:t>هو أن يأتي بعد حرف المد حرف متح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Arial"/>
                <a:ea typeface="Arabic Transparent"/>
              </a:rPr>
              <a:t> ثم يسكن عند الوقف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قل أعوذ برب النـ</a:t>
            </a:r>
            <a:r>
              <a:rPr b="1" lang="ar-SA" sz="4400" spc="-1" strike="noStrike">
                <a:solidFill>
                  <a:srgbClr val="ff3300"/>
                </a:solidFill>
                <a:latin typeface="Arial"/>
              </a:rPr>
              <a:t>ا</a:t>
            </a:r>
            <a:r>
              <a:rPr b="1" lang="ar-SA" sz="4400" spc="-1" strike="noStrike">
                <a:solidFill>
                  <a:srgbClr val="6600cc"/>
                </a:solidFill>
                <a:latin typeface="Arial"/>
              </a:rPr>
              <a:t>سِ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71640" y="3933720"/>
            <a:ext cx="5184720" cy="10080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وجوب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5157720"/>
            <a:ext cx="6048360" cy="1700280"/>
          </a:xfrm>
          <a:prstGeom prst="wedgeEllipseCallout">
            <a:avLst>
              <a:gd name="adj1" fmla="val 48768"/>
              <a:gd name="adj2" fmla="val 481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Arial"/>
                <a:cs typeface="Akhbar MT"/>
              </a:rPr>
              <a:t>يمد بمقدار حركتين أو أرب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Arial"/>
                <a:ea typeface="Akhbar MT"/>
              </a:rPr>
              <a:t> أو خمس حركات</a:t>
            </a:r>
            <a:r>
              <a:rPr b="1" lang="ar-SA" sz="3200" spc="-1" strike="noStrike">
                <a:solidFill>
                  <a:srgbClr val="800000"/>
                </a:solidFill>
                <a:latin typeface="Arial"/>
                <a:ea typeface="Akhbar 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4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6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987640" y="144360"/>
            <a:ext cx="5184720" cy="836640"/>
          </a:xfrm>
          <a:custGeom>
            <a:avLst/>
            <a:gdLst>
              <a:gd name="textAreaLeft" fmla="*/ 759240 w 5184720"/>
              <a:gd name="textAreaRight" fmla="*/ 4425480 w 5184720"/>
              <a:gd name="textAreaTop" fmla="*/ 122400 h 836640"/>
              <a:gd name="textAreaBottom" fmla="*/ 7142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50000">
                <a:srgbClr val="99cc00"/>
              </a:gs>
              <a:gs pos="100000">
                <a:srgbClr val="bddd5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6600"/>
                </a:solidFill>
                <a:latin typeface="Arial"/>
                <a:cs typeface="Al-Hadith1"/>
              </a:rPr>
              <a:t>مد اللي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77080" y="134136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تعريف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2720" y="1268280"/>
            <a:ext cx="6120000" cy="863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99"/>
                </a:solidFill>
                <a:latin typeface="Arial"/>
                <a:cs typeface="Akhbar MT"/>
              </a:rPr>
              <a:t>هو أن يقع بعد حرفي اللين سكون عارض لأجل الوق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20000" y="2276640"/>
            <a:ext cx="1800000" cy="863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00cc"/>
                </a:solidFill>
                <a:latin typeface="Arial"/>
                <a:cs typeface="Akhbar MT"/>
              </a:rPr>
              <a:t>حرفا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6920" y="2349360"/>
            <a:ext cx="576108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ea typeface="Akhbar MT"/>
              </a:rPr>
              <a:t>( الواو و الياء ) الساكنتان  المفتوح ما قبلهم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2360" y="3357720"/>
            <a:ext cx="3887640" cy="1081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0099"/>
                </a:solidFill>
                <a:latin typeface="Arial"/>
                <a:cs typeface="Akhbar MT"/>
              </a:rPr>
              <a:t>و ءامنهم من 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خَوف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  <a:ea typeface="Akhbar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00cc"/>
                </a:solidFill>
                <a:latin typeface="Arial"/>
                <a:cs typeface="Akhbar MT"/>
              </a:rPr>
              <a:t>مقدار م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4000" y="5589720"/>
            <a:ext cx="6192720" cy="1008000"/>
          </a:xfrm>
          <a:prstGeom prst="wedgeEllipseCallout">
            <a:avLst>
              <a:gd name="adj1" fmla="val 48796"/>
              <a:gd name="adj2" fmla="val -39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Akhbar MT"/>
              </a:rPr>
              <a:t>يمد حركتان أو أربع أو ست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3429000"/>
            <a:ext cx="3745080" cy="10098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11111"/>
                </a:solidFill>
                <a:latin typeface="Arial"/>
                <a:cs typeface="Akhbar MT"/>
              </a:rPr>
              <a:t>فليعبدوا رب هذا 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البَي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92360" y="4653000"/>
            <a:ext cx="5975280" cy="720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7eefa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900cc"/>
                </a:solidFill>
                <a:latin typeface="Arial"/>
                <a:cs typeface="Tahoma"/>
              </a:rPr>
              <a:t>حكم مده : جواز الم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4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2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4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908000" y="144360"/>
            <a:ext cx="5185080" cy="836640"/>
          </a:xfrm>
          <a:custGeom>
            <a:avLst/>
            <a:gdLst>
              <a:gd name="textAreaLeft" fmla="*/ 759240 w 5185080"/>
              <a:gd name="textAreaRight" fmla="*/ 4425840 w 5185080"/>
              <a:gd name="textAreaTop" fmla="*/ 122400 h 836640"/>
              <a:gd name="textAreaBottom" fmla="*/ 7142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50000">
                <a:srgbClr val="99cc00"/>
              </a:gs>
              <a:gs pos="100000">
                <a:srgbClr val="bddd5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6600"/>
                </a:solidFill>
                <a:latin typeface="Arial"/>
                <a:cs typeface="Arabic Transparent"/>
              </a:rPr>
              <a:t>المد اللاز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052640"/>
            <a:ext cx="1944720" cy="79200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تعريف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360" y="1197000"/>
            <a:ext cx="6948720" cy="934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  <a:cs typeface="Tahoma"/>
              </a:rPr>
              <a:t>أن يأتي بعد حرف المد سكون أصلي في كل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35280" y="2205000"/>
            <a:ext cx="1513080" cy="86364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ahoma"/>
              </a:rPr>
              <a:t>أنواع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76720" y="3500280"/>
            <a:ext cx="3743280" cy="938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فإذا جاءت  الطا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مَّـ</a:t>
            </a: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ـ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92360" y="4653000"/>
            <a:ext cx="2950920" cy="720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7eefa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ahoma"/>
              </a:rPr>
              <a:t>وجوب  الم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00cc"/>
                </a:solidFill>
                <a:latin typeface="Arial"/>
                <a:cs typeface="Akhbar MT"/>
              </a:rPr>
              <a:t>مقدار م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5516640"/>
            <a:ext cx="5761080" cy="1268280"/>
          </a:xfrm>
          <a:prstGeom prst="wedgeEllipseCallout">
            <a:avLst>
              <a:gd name="adj1" fmla="val 48703"/>
              <a:gd name="adj2" fmla="val -10574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Arial"/>
                <a:cs typeface="Tahoma"/>
              </a:rPr>
              <a:t>يمد ست حركات لجميع أنواع المد اللاز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2637000"/>
            <a:ext cx="9349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771280" y="2637000"/>
            <a:ext cx="792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56360" y="2205000"/>
            <a:ext cx="2592360" cy="79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د لازم كلم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2276640"/>
            <a:ext cx="23749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د لازم حرفـ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3500280"/>
            <a:ext cx="3529080" cy="938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الم ــ الرــ حم،عس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604360" y="306864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360" y="306864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92720" y="4581360"/>
            <a:ext cx="3166920" cy="792360"/>
          </a:xfrm>
          <a:prstGeom prst="flowChartOnlineStorag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cc"/>
                </a:solidFill>
                <a:latin typeface="Arial"/>
                <a:cs typeface="Tahoma"/>
              </a:rPr>
              <a:t>حكم مــد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69" dur="indefinite" restart="never" nodeType="tmRoot">
          <p:childTnLst>
            <p:seq>
              <p:cTn id="1570" dur="indefinite" nodeType="mainSeq">
                <p:childTnLst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4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0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1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268360" y="0"/>
            <a:ext cx="4967640" cy="1125360"/>
          </a:xfrm>
          <a:custGeom>
            <a:avLst/>
            <a:gdLst>
              <a:gd name="textAreaLeft" fmla="*/ 1087560 w 4967640"/>
              <a:gd name="textAreaRight" fmla="*/ 3880080 w 4967640"/>
              <a:gd name="textAreaTop" fmla="*/ 246240 h 1125360"/>
              <a:gd name="textAreaBottom" fmla="*/ 87912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0" y="14016"/>
                </a:lnTo>
                <a:lnTo>
                  <a:pt x="3163" y="18437"/>
                </a:lnTo>
                <a:lnTo>
                  <a:pt x="7446" y="18703"/>
                </a:lnTo>
                <a:lnTo>
                  <a:pt x="10800" y="21600"/>
                </a:lnTo>
                <a:lnTo>
                  <a:pt x="14016" y="18760"/>
                </a:lnTo>
                <a:lnTo>
                  <a:pt x="18437" y="18437"/>
                </a:lnTo>
                <a:lnTo>
                  <a:pt x="18703" y="14154"/>
                </a:lnTo>
                <a:lnTo>
                  <a:pt x="21600" y="10800"/>
                </a:lnTo>
                <a:lnTo>
                  <a:pt x="18760" y="7584"/>
                </a:lnTo>
                <a:lnTo>
                  <a:pt x="18437" y="3163"/>
                </a:lnTo>
                <a:lnTo>
                  <a:pt x="14154" y="2897"/>
                </a:lnTo>
                <a:lnTo>
                  <a:pt x="10800" y="0"/>
                </a:lnTo>
                <a:lnTo>
                  <a:pt x="7584" y="2840"/>
                </a:lnTo>
                <a:lnTo>
                  <a:pt x="3163" y="3163"/>
                </a:lnTo>
                <a:lnTo>
                  <a:pt x="2897" y="7446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990099"/>
                </a:solidFill>
                <a:latin typeface="Arial"/>
                <a:cs typeface="Tahoma"/>
              </a:rPr>
              <a:t>تطبيقا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1268280"/>
            <a:ext cx="8675640" cy="525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155736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س : كم حكما للنون الساكنة و التنوين 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4360" y="494172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ahoma"/>
              </a:rPr>
              <a:t>س : عدد أنواع المد  بالتفصيل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5732640"/>
            <a:ext cx="792000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Tahoma"/>
              </a:rPr>
              <a:t>عرف المد المتصل ’ و بين حكم مده ، ومقدار مده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3357720"/>
            <a:ext cx="792000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ahoma"/>
              </a:rPr>
              <a:t>س :اذكر أحكام الميم الساكنة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4360" y="414972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Tahoma"/>
              </a:rPr>
              <a:t>س : ماذا يسميان النون و الميم المشددتان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242100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Tahoma"/>
              </a:rPr>
              <a:t>س  : عرف الإدغام و كم حروفه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684" dur="indefinite" restart="never" nodeType="tmRoot">
          <p:childTnLst>
            <p:seq>
              <p:cTn id="1685" dur="indefinite" nodeType="mainSeq">
                <p:childTnLst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Arial Black"/>
                <a:cs typeface="Al-Hadith1"/>
              </a:rPr>
              <a:t>دروس الدورة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آداب تلاوة القرآن و سماعه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أحكام النون الساكنة و التنوين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نون و الميم المشدّدتان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أحكام الميم الساكنة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و أقسامه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الطبيعي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الفرعي و أقسام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تطبيقات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b7"/>
                </a:solidFill>
                <a:latin typeface="Arial Black"/>
                <a:cs typeface="PT Simple Bold Ruled"/>
              </a:rPr>
              <a:t>آداب تلاوة القرآن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أن يكون القارئ على طهارة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تعوذ عند القراءة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ffffff"/>
                </a:solidFill>
                <a:latin typeface="Arial"/>
              </a:rPr>
              <a:t>البسملة عند القراءة من أول السورة ما عدا سورة التوبة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خشوع عند تلاوة القرآن الكريم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تحسين الصوت بالقرآن الكريم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تدبر في معاني القرآن الكريم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990000"/>
                </a:solidFill>
                <a:latin typeface="Arial Black"/>
                <a:cs typeface="Al-Hadith1"/>
              </a:rPr>
              <a:t>آداب سماع القرآن الكريم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الإنصات الجيد لقراءة القرآن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عدم الكلام و العبث أثناء سماع القرآن الكريم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عدم الانشغال في التفكر في آيات الرحمن الرحيم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  <a:ea typeface="PT Bold Broken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Arial Black"/>
                <a:cs typeface="PT Bold Broken"/>
              </a:rPr>
              <a:t>أحكام النون الساكنة و التنوين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413000"/>
            <a:ext cx="7559640" cy="2376360"/>
          </a:xfrm>
          <a:prstGeom prst="downArrowCallout">
            <a:avLst>
              <a:gd name="adj1" fmla="val 73969"/>
              <a:gd name="adj2" fmla="val 58896"/>
              <a:gd name="adj3" fmla="val 22477"/>
              <a:gd name="adj4" fmla="val 6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3300"/>
                </a:solidFill>
                <a:latin typeface="Tahoma"/>
              </a:rPr>
              <a:t>س: ما هي النون الساكنة و التنوين  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3645000"/>
            <a:ext cx="3960720" cy="2448000"/>
          </a:xfrm>
          <a:prstGeom prst="leftArrow">
            <a:avLst>
              <a:gd name="adj1" fmla="val 98861"/>
              <a:gd name="adj2" fmla="val 4104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النون الساكن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     هي التي لا حركة له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3300"/>
                </a:solidFill>
                <a:latin typeface="Tahoma"/>
              </a:rPr>
              <a:t>نْ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645000"/>
            <a:ext cx="4319640" cy="2448000"/>
          </a:xfrm>
          <a:prstGeom prst="rightArrow">
            <a:avLst>
              <a:gd name="adj1" fmla="val 100000"/>
              <a:gd name="adj2" fmla="val 4980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التنوي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هو نون تلحق آخر الاسم نطقً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لا كتابة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3300"/>
                </a:solidFill>
                <a:latin typeface="Tahoma"/>
              </a:rPr>
              <a:t>ً       ٍ      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189000"/>
            <a:ext cx="7705800" cy="1439640"/>
          </a:xfrm>
          <a:custGeom>
            <a:avLst/>
            <a:gdLst>
              <a:gd name="textAreaLeft" fmla="*/ 1087200 w 7705800"/>
              <a:gd name="textAreaRight" fmla="*/ 6618600 w 7705800"/>
              <a:gd name="textAreaTop" fmla="*/ 157680 h 1439640"/>
              <a:gd name="textAreaBottom" fmla="*/ 8888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8264"/>
                </a:moveTo>
                <a:arcTo wR="21600" hR="35552" stAng="-6559790" swAng="370838"/>
                <a:lnTo>
                  <a:pt x="3048" y="2368"/>
                </a:lnTo>
                <a:arcTo wR="21600" hR="35552" stAng="-6188952" swAng="1577904"/>
                <a:lnTo>
                  <a:pt x="18552" y="5869"/>
                </a:lnTo>
                <a:arcTo wR="21600" hR="35552" stAng="-4611048" swAng="370838"/>
                <a:lnTo>
                  <a:pt x="18900" y="12763"/>
                </a:lnTo>
                <a:lnTo>
                  <a:pt x="21600" y="21600"/>
                </a:lnTo>
                <a:lnTo>
                  <a:pt x="21600" y="21600"/>
                </a:lnTo>
                <a:arcTo wR="21600" hR="35552" stAng="-4240210" swAng="-660870"/>
                <a:lnTo>
                  <a:pt x="15852" y="14322"/>
                </a:lnTo>
                <a:arcTo wR="21600" hR="35552" stAng="-4901081" swAng="-997839"/>
                <a:lnTo>
                  <a:pt x="5748" y="17823"/>
                </a:lnTo>
                <a:arcTo wR="21600" hR="35552" stAng="-5898919" swAng="-660870"/>
                <a:lnTo>
                  <a:pt x="2700" y="12763"/>
                </a:lnTo>
                <a:close/>
              </a:path>
              <a:path fill="none" w="21600" h="21600">
                <a:moveTo>
                  <a:pt x="5748" y="14322"/>
                </a:moveTo>
                <a:arcTo wR="21600" hR="35552" stAng="-5898919" swAng="-290033"/>
                <a:lnTo>
                  <a:pt x="5748" y="17823"/>
                </a:lnTo>
              </a:path>
              <a:path fill="none" w="21600" h="21600">
                <a:moveTo>
                  <a:pt x="15852" y="14322"/>
                </a:moveTo>
                <a:arcTo wR="21600" hR="35552" stAng="-4901081" swAng="290033"/>
                <a:lnTo>
                  <a:pt x="15852" y="17823"/>
                </a:lnTo>
              </a:path>
              <a:path fill="none" w="21600" h="21600">
                <a:moveTo>
                  <a:pt x="3048" y="5869"/>
                </a:moveTo>
                <a:lnTo>
                  <a:pt x="3048" y="15704"/>
                </a:lnTo>
              </a:path>
              <a:path fill="none" w="21600" h="21600">
                <a:moveTo>
                  <a:pt x="18552" y="5869"/>
                </a:moveTo>
                <a:lnTo>
                  <a:pt x="18552" y="15704"/>
                </a:lnTo>
              </a:path>
            </a:pathLst>
          </a:cu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66cc"/>
                </a:solidFill>
                <a:latin typeface="Tahoma"/>
                <a:cs typeface="PT Simple Bold Ruled"/>
              </a:rPr>
              <a:t>أحكام النون الساكنة و التنوين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2637000"/>
            <a:ext cx="2521080" cy="187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</a:rPr>
              <a:t>الإظهــار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797360"/>
            <a:ext cx="3168360" cy="16560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</a:rPr>
              <a:t>الإدغــا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4795920"/>
            <a:ext cx="3024360" cy="1728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ahoma"/>
              </a:rPr>
              <a:t>الإقــــلاب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2637000"/>
            <a:ext cx="2592360" cy="187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</a:rPr>
              <a:t>الإخفـــا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1268280"/>
            <a:ext cx="3168720" cy="6480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  <a:cs typeface="Tahoma"/>
              </a:rPr>
              <a:t>أربعــة أحكــا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2060640"/>
            <a:ext cx="165600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2060640"/>
            <a:ext cx="1295640" cy="26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00000" y="2060640"/>
            <a:ext cx="1655640" cy="26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39640" y="2060640"/>
            <a:ext cx="158436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340000" y="333360"/>
            <a:ext cx="4248000" cy="107964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640"/>
              <a:gd name="textAreaBottom" fmla="*/ 952560 h 1079640"/>
            </a:gdLst>
            <a:ahLst/>
            <a:rect l="textAreaLeft" t="textAreaTop" r="textAreaRight" b="textAreaBottom"/>
            <a:pathLst>
              <a:path w="849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67" y="21600"/>
                </a:lnTo>
                <a:arcTo wR="3600" hR="3600" stAng="10800000" swAng="5400000"/>
                <a:lnTo>
                  <a:pt x="84967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Simple Bold Ruled"/>
              </a:rPr>
              <a:t>الإظهــــار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ahoma"/>
              </a:rPr>
              <a:t>هو أن تخرج النون الساكنة و التنوين من مخرجهم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ahoma"/>
              </a:rPr>
              <a:t>واضحتين بدون غ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0529000">
            <a:off x="7781760" y="4365720"/>
            <a:ext cx="93672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862000">
            <a:off x="6409800" y="4437000"/>
            <a:ext cx="863640" cy="129564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6600"/>
                </a:solidFill>
                <a:latin typeface="Tahoma"/>
              </a:rPr>
              <a:t>ه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644800">
            <a:off x="4897080" y="4508280"/>
            <a:ext cx="1008000" cy="12222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Tahoma"/>
              </a:rPr>
              <a:t>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657400">
            <a:off x="3203640" y="4581000"/>
            <a:ext cx="1008000" cy="108108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413200">
            <a:off x="1810800" y="4436640"/>
            <a:ext cx="100836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0716200">
            <a:off x="495000" y="4436640"/>
            <a:ext cx="93492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3068640"/>
            <a:ext cx="3816360" cy="1224000"/>
          </a:xfrm>
          <a:custGeom>
            <a:avLst/>
            <a:gdLst>
              <a:gd name="textAreaLeft" fmla="*/ 31680 w 3816360"/>
              <a:gd name="textAreaRight" fmla="*/ 3784680 w 381636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734080"/>
            <a:ext cx="8064360" cy="11239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أ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خي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 ه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اك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ع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لمًا            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ح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ازه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غ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ير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خ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اس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340000" y="333360"/>
            <a:ext cx="4248000" cy="107964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640"/>
              <a:gd name="textAreaBottom" fmla="*/ 952560 h 1079640"/>
            </a:gdLst>
            <a:ahLst/>
            <a:rect l="textAreaLeft" t="textAreaTop" r="textAreaRight" b="textAreaBottom"/>
            <a:pathLst>
              <a:path w="849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67" y="21600"/>
                </a:lnTo>
                <a:arcTo wR="3600" hR="3600" stAng="10800000" swAng="5400000"/>
                <a:lnTo>
                  <a:pt x="84967" y="3600"/>
                </a:lnTo>
                <a:arcTo wR="3600" hR="3600" stAng="5400000" swAng="5400000"/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Al-Hadith1"/>
              </a:rPr>
              <a:t>الإدغــــــا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l-Hadith1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Tahoma"/>
                <a:cs typeface="Al-Hadith1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2781360"/>
            <a:ext cx="3600360" cy="1366920"/>
          </a:xfrm>
          <a:custGeom>
            <a:avLst/>
            <a:gdLst>
              <a:gd name="textAreaLeft" fmla="*/ 113400 w 3600360"/>
              <a:gd name="textAreaRight" fmla="*/ 3714120 w 3600360"/>
              <a:gd name="textAreaTop" fmla="*/ 161640 h 1366920"/>
              <a:gd name="textAreaBottom" fmla="*/ 1205280 h 1366920"/>
            </a:gdLst>
            <a:ahLst/>
            <a:rect l="textAreaLeft" t="textAreaTop" r="textAreaRight" b="textAreaBottom"/>
            <a:pathLst>
              <a:path w="21600" h="21600">
                <a:moveTo>
                  <a:pt x="682" y="1279"/>
                </a:moveTo>
                <a:cubicBezTo>
                  <a:pt x="3941" y="-3252"/>
                  <a:pt x="7882" y="5810"/>
                  <a:pt x="11141" y="1279"/>
                </a:cubicBezTo>
                <a:cubicBezTo>
                  <a:pt x="14400" y="-3252"/>
                  <a:pt x="18341" y="5810"/>
                  <a:pt x="21600" y="1279"/>
                </a:cubicBezTo>
                <a:lnTo>
                  <a:pt x="20918" y="20321"/>
                </a:lnTo>
                <a:cubicBezTo>
                  <a:pt x="17659" y="24852"/>
                  <a:pt x="13718" y="15790"/>
                  <a:pt x="10459" y="20321"/>
                </a:cubicBezTo>
                <a:cubicBezTo>
                  <a:pt x="7200" y="24852"/>
                  <a:pt x="3259" y="15790"/>
                  <a:pt x="0" y="20321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ahoma"/>
                <a:cs typeface="Al-Hadith1"/>
              </a:rPr>
              <a:t>حروفــ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Hesham Ghorn Italic"/>
              </a:rPr>
              <a:t>هو إدخال النون الساكنة أوالتنوين في أحد حروف الإدغا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85080" y="3645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4581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4508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789360"/>
            <a:ext cx="8632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4365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4437000"/>
            <a:ext cx="863640" cy="9367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76360" y="5373720"/>
            <a:ext cx="5904000" cy="1484280"/>
          </a:xfrm>
          <a:prstGeom prst="horizontalScroll">
            <a:avLst>
              <a:gd name="adj" fmla="val 9944"/>
            </a:avLst>
          </a:prstGeom>
          <a:solidFill>
            <a:srgbClr val="00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يــ</a:t>
            </a:r>
            <a:r>
              <a:rPr b="0" lang="ar-SA" sz="5400" spc="-1" strike="noStrike">
                <a:solidFill>
                  <a:srgbClr val="ff3300"/>
                </a:solidFill>
                <a:latin typeface="Arial"/>
                <a:cs typeface="Al-Hadith1"/>
              </a:rPr>
              <a:t>ر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مـ</a:t>
            </a:r>
            <a:r>
              <a:rPr b="0" lang="ar-SA" sz="5400" spc="-1" strike="noStrike">
                <a:solidFill>
                  <a:srgbClr val="ff3300"/>
                </a:solidFill>
                <a:latin typeface="Arial"/>
                <a:cs typeface="Al-Hadith1"/>
              </a:rPr>
              <a:t>ـلـ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ـــــــــــــون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00:21:33Z</dcterms:created>
  <dc:creator>s</dc:creator>
  <dc:description/>
  <dc:language>en-US</dc:language>
  <cp:lastModifiedBy>جمعة</cp:lastModifiedBy>
  <dcterms:modified xsi:type="dcterms:W3CDTF">2008-11-13T00:10:09Z</dcterms:modified>
  <cp:revision>35</cp:revision>
  <dc:subject/>
  <dc:title>بسم الله الرحمن الرحيم  المملكة العربية السعودية  وزارة التربية و التعليم الإدارة العامة للتربية و التعليم بمنطقة المدينة المنورة  المدرسة الصيفية لتحفيظ القرآن الكريم  بمدرسة صلاح الدين الأيوبي  </dc:title>
</cp:coreProperties>
</file>